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CEA-EBE0-4D52-AEF4-1710B66E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E02-9907-4B07-9F3A-041A68E3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674-2D0C-46AE-AE1C-A6632C2F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56F-D09F-4163-990F-D872A19D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744-E48F-40B1-B297-02B0940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CC0-4A59-4EBA-BAB0-5516C8C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746-D698-4E1A-ABD8-C7B4BEC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94D-3A5E-41D5-936A-8923B97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567-AF80-4FD7-9E5B-6999A88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D47-6F61-4FF3-BBC4-5906B28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D5E-3E1D-49EE-9EEB-F036B65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F22-9F9F-483C-A050-D149BA1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C9834-8582-4F6A-A657-0AF5B74DE5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1452F-5AA8-4A17-9939-0F17D774A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over.jpg"/>
          <p:cNvPicPr/>
          <p:nvPr/>
        </p:nvPicPr>
        <p:blipFill>
          <a:blip r:embed="rId1"/>
          <a:stretch/>
        </p:blipFill>
        <p:spPr>
          <a:xfrm>
            <a:off x="0" y="0"/>
            <a:ext cx="6858000" cy="8864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7058160"/>
            <a:ext cx="271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 MacKinnel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09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0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1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2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3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4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5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6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7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18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1.jpg"/>
          <p:cNvPicPr/>
          <p:nvPr/>
        </p:nvPicPr>
        <p:blipFill>
          <a:blip r:embed="rId1"/>
          <a:stretch/>
        </p:blipFill>
        <p:spPr>
          <a:xfrm>
            <a:off x="0" y="117360"/>
            <a:ext cx="6858000" cy="89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19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286000" y="2575080"/>
            <a:ext cx="2336760" cy="10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d44f12"/>
                </a:soli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Times New Roman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solidFill>
                <a:srgbClr val="d44f12"/>
              </a:soli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2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3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4.jpg"/>
          <p:cNvPicPr/>
          <p:nvPr/>
        </p:nvPicPr>
        <p:blipFill>
          <a:blip r:embed="rId1"/>
          <a:stretch/>
        </p:blipFill>
        <p:spPr>
          <a:xfrm>
            <a:off x="0" y="162000"/>
            <a:ext cx="685800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5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6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7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08.jpg"/>
          <p:cNvPicPr/>
          <p:nvPr/>
        </p:nvPicPr>
        <p:blipFill>
          <a:blip r:embed="rId1"/>
          <a:stretch/>
        </p:blipFill>
        <p:spPr>
          <a:xfrm>
            <a:off x="0" y="139680"/>
            <a:ext cx="6858000" cy="88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34:24Z</dcterms:created>
  <dc:creator>Beverly Moshier</dc:creator>
  <dc:description/>
  <dc:language>en-US</dc:language>
  <cp:lastModifiedBy>Beverly Moshier</cp:lastModifiedBy>
  <dcterms:modified xsi:type="dcterms:W3CDTF">2011-12-05T17:41:48Z</dcterms:modified>
  <cp:revision>1</cp:revision>
  <dc:subject/>
  <dc:title>Slide 1</dc:title>
</cp:coreProperties>
</file>